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99BC-2295-427F-8E2C-C68D6AA0F8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za pro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8FF-62EE-4F07-85F9-8487DD6D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70B-98A1-429C-A4F9-8E1658A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07F-A216-446B-A65B-B474C4CC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E29-F059-4FE5-AEA5-EE2946FD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F58-C5B5-416B-85F0-29A3D203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332-BDB3-4787-8FDD-A00BCD80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1ED-77B7-4F0F-A262-FD054B72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6A7-5CBD-40BF-A0EA-B7088B6A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ED7-3A7A-49FB-B167-0C68C137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18C-AED1-43E5-BCD2-3EFF418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C0A-509B-4172-9AAC-DC4B55F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B1D-86ED-4129-AE8D-A71D006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12D0-FE49-4325-8981-5665FC72E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37080" y="923760"/>
            <a:ext cx="1726920" cy="99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2708280"/>
            <a:ext cx="7416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GB" sz="4800" spc="-1" strike="noStrike">
                <a:solidFill>
                  <a:srgbClr val="ffffff"/>
                </a:solidFill>
                <a:latin typeface="Gill Sans MT"/>
              </a:rPr>
              <a:t>~ TTIP ~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A CHARTER FOR DE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AN ATTACK ON JO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ill Sans MT"/>
              </a:rPr>
              <a:t>AN END TO DEMOCR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RESISTANCE BUIL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84464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#NoTTIP has brought together strong coalition of trade unions, environmental, public health, digital and other activ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All UK trade unions fully opposed to TTIP; German, French and other EU unions also demanding halt to negot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forced to halt ISDS negotiations to run public consultation, which saw record 150,000 responses (50,000 from UK al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ropean Citizens’ Initiative on TTIP &amp; CETA (EU-Canada) raised 1 million signatures in record two months across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MORE 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84464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27118" t="8658" r="29329" b="11611"/>
          <a:stretch/>
        </p:blipFill>
        <p:spPr>
          <a:xfrm>
            <a:off x="1042920" y="2205000"/>
            <a:ext cx="2832120" cy="388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29329" t="8658" r="33024" b="19486"/>
          <a:stretch/>
        </p:blipFill>
        <p:spPr>
          <a:xfrm>
            <a:off x="5097600" y="2205000"/>
            <a:ext cx="27144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MORE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2374920"/>
            <a:ext cx="47527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waronwant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stop-ttip.org (EC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nottip.org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THE BAS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1628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TIP = Transatlantic Trade and Investment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-US talks launched Feb 2013; aiming to conclude 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Negotiations held in secret between European Commission and US government officials every two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has put a 30-year ban on public access to all key negotiating documents; US a 5-year ban from end of tal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MPs from EU member states (inc UK) also have no access to any of the key negotiating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IMPACTS PREDIC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916280"/>
            <a:ext cx="82090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According to the European Commission’s own stud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At least one million people will lose their jobs as a direct result of TTIP, in EU and US comb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admits “legitimate concerns” that many of these people will not find alternativ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TIP will add an extra 11m metric tons of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Gill Sans MT"/>
              </a:rPr>
              <a:t>2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o the atmosphere, and will further endanger biod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THE THREE PILL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349360"/>
            <a:ext cx="63374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TIP rests on three central pilla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DEREGULA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PRIVATISA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NEW POWERS TO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1. DEREG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84464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TIP is not a traditional trade agreement reducing border tariffs (tariffs between EU &amp; USA are already minim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TIP explicitly aims at ‘regulatory barriers’ to trade – i.e. environmental standards, labour rights, food safety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TIP = particular threat in Europe, since EU regulations enshrine precautionary principle to protect 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recautionary principle: if there’s a risk that something is dangerous, it can’t be introduced (US has opposite: unless you can prove it’s unsafe, it can be introduc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1. DEREG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844640"/>
            <a:ext cx="856944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xamples of regulatory ‘barriers’ targeted by US produc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ban on G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ban on beef produced with bovine growth horm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ban on high levels of pesticide residue in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rules on toxic chemicals (REACH regula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EU (led by UK) in turn pushing for relaxation of US financial regulations introduced after the banking crisis of 2007-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ill Sans MT"/>
              </a:rPr>
              <a:t>2. PRIVATIS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4464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TIP seeks to expand reach of private sector companies into new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ublic services and government procurement contracts included within TTIP negotiations, UK government confi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UK government admits it wants TTIP to “complete the single market” in Europe by opening more to private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lso in USA: ‘Buy America’ provisions (key for protecting local jobs and small businesses) explicitly targeted by TT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3. NEW POWERS TO CAPI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TIP represents the biggest single transfer of power to transnational capital in a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In particular, TTIP will introduce an ‘investor-state dispute settlement’ (ISDS) mechanism between EU and 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This allows US corporations to sue EU states for policy decisions that could harm their profits in the fu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Cases adjudicated by corporate lawyers in secret tribunals only open to foreign investors, bypassing domestic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3. NEW POWERS TO CAPI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844640"/>
            <a:ext cx="896472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Corporations already using such powers from other treat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Vattenfall suing Germany for €5bn over nuclear phase-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Philip Morris suing Australia for plain cigarette packaging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Veolia suing Egypt for raising the minimum w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Achmea won against Slovakia for reversing health privatis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ill Sans MT"/>
              </a:rPr>
              <a:t>Occidental successfully sued Ecuador for $1.77b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1:48:44Z</dcterms:created>
  <dc:creator>John Hilary</dc:creator>
  <dc:description/>
  <dc:language>en-US</dc:language>
  <cp:lastModifiedBy>John Hilary</cp:lastModifiedBy>
  <dcterms:modified xsi:type="dcterms:W3CDTF">2015-01-17T15:14:00Z</dcterms:modified>
  <cp:revision>134</cp:revision>
  <dc:subject/>
  <dc:title>PowerPoint Presentation</dc:title>
</cp:coreProperties>
</file>