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CAD9-6CEF-46BA-A6E8-2CAB73FC6F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1B4-D5CC-4DEF-86FD-772E7F88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BA1-D77F-4020-98F5-E3C05DC4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402-8263-4191-8F11-7F23A6DF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48D-D306-46F9-87D8-EDB376C2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FED-3509-4E07-A1FC-F7597AB8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8F2-FC7C-4B33-9D55-116A6F0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D33-0CFD-4AC5-8696-4F8CB1F7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1E3-07B4-4413-AFFA-8C09FAC6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CF2-D034-4D13-897F-9D1A46A8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A88-F67E-4868-B319-E30874D6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BE0-885B-4EAB-8570-40DE4D36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968-1290-4B33-AF07-45D24514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5A21-418D-411F-9F32-5FF5019FF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37080" y="923760"/>
            <a:ext cx="1726920" cy="99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2708280"/>
            <a:ext cx="7416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GB" sz="4800" spc="-1" strike="noStrike">
                <a:solidFill>
                  <a:srgbClr val="ffffff"/>
                </a:solidFill>
                <a:latin typeface="Gill Sans MT"/>
              </a:rPr>
              <a:t>~ TTIP ~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A CHARTER FOR DE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AN ATTACK ON JO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AN END TO DEMOCR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RESISTANCE BUIL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84464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#NoTTIP has brought together strong coalition of trade unions, environmental, public health, digital and other activ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All UK trade unions fully opposed to TTIP; German, French and other EU unions also demanding halt to negot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forced to halt ISDS negotiations to run public consultation, which saw record 150,000 responses (50,000 from UK al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ropean Citizens’ Initiative on TTIP &amp; CETA (EU-Canada) raised 1 million signatures in record two months across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MOR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84464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27118" t="8658" r="29329" b="11611"/>
          <a:stretch/>
        </p:blipFill>
        <p:spPr>
          <a:xfrm>
            <a:off x="1042920" y="2205000"/>
            <a:ext cx="2832120" cy="388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29329" t="8658" r="33024" b="19486"/>
          <a:stretch/>
        </p:blipFill>
        <p:spPr>
          <a:xfrm>
            <a:off x="5097600" y="2205000"/>
            <a:ext cx="27144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MORE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2374920"/>
            <a:ext cx="47527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waronwant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stop-ttip.org (EC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nottip.org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THE BAS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1628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TIP = Transatlantic Trade and Investment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-US talks launched Feb 2013; aiming to conclude 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Negotiations held in secret between European Commission and US government officials every two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has put a 30-year ban on public access to all key negotiating documents; US a 5-year ban from end of tal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MPs from EU member states (inc UK) also have no access to any of the key negotiating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IMPACTS PREDIC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916280"/>
            <a:ext cx="82090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According to the European Commission’s own stud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At least one million people will lose their jobs as a direct result of TTIP, in EU and US comb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admits “legitimate concerns” that many of these people will not find alternativ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TIP will add an extra 11m metric tons of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Gill Sans MT"/>
              </a:rPr>
              <a:t>2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o the atmosphere, and will further endanger biod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THE THREE PILL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349360"/>
            <a:ext cx="63374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TIP rests on three central pilla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DEREGULA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PRIVATISA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NEW POWERS TO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1. DEREG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84464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TIP is not a traditional trade agreement reducing border tariffs (tariffs between EU &amp; USA are already minim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TIP explicitly aims at ‘regulatory barriers’ to trade – i.e. environmental standards, labour rights, food safety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TIP = particular threat in Europe, since EU regulations enshrine precautionary principle to protect 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recautionary principle: if there’s a risk that something is dangerous, it can’t be introduced (US has opposite: unless you can prove it’s unsafe, it can be introduc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1. DEREG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844640"/>
            <a:ext cx="856944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xamples of regulatory ‘barriers’ targeted by US produc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ban on G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ban on beef produced with bovine growth horm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ban on high levels of pesticide residue in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rules on toxic chemicals (REACH regula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(led by UK) in turn pushing for relaxation of US financial regulations introduced after the banking crisis of 2007-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2. PRIVATIS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4464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TIP seeks to expand reach of private sector companies into new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ublic services and government procurement contracts included within TTIP negotiations, UK government confi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UK government admits it wants TTIP to “complete the single market” in Europe by opening more to private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lso in USA: ‘Buy America’ provisions (key for protecting local jobs and small businesses) explicitly targeted by TT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3. NEW POWERS TO CAPI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TIP represents the biggest single transfer of power to transnational capital in a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In particular, TTIP will introduce an ‘investor-state dispute settlement’ (ISDS) mechanism between EU and 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his allows US corporations to sue EU states for policy decisions that could harm their profits in the fu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Cases adjudicated by corporate lawyers in secret tribunals only open to foreign investors, bypassing domestic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3. NEW POWERS TO CAPI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844640"/>
            <a:ext cx="896472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Corporations already using such powers from other treat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Vattenfall suing Germany for €5bn over nuclear phase-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Philip Morris suing Australia for plain cigarette packaging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Veolia suing Egypt for raising the minimum w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Achmea won against Slovakia for reversing health privatis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Occidental successfully sued Ecuador for $1.77b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1:48:44Z</dcterms:created>
  <dc:creator>John Hilary</dc:creator>
  <dc:description/>
  <dc:language>en-US</dc:language>
  <cp:lastModifiedBy>John Hilary</cp:lastModifiedBy>
  <dcterms:modified xsi:type="dcterms:W3CDTF">2015-01-17T15:14:00Z</dcterms:modified>
  <cp:revision>134</cp:revision>
  <dc:subject/>
  <dc:title>PowerPoint Presentation</dc:title>
</cp:coreProperties>
</file>